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9144000" cy="6858000"/>
  <p:notesSz cx="6761163" cy="9942513"/>
</p:presentation>
</file>

<file path=ppt/commentAuthors.xml><?xml version="1.0" encoding="utf-8"?>
<p:cmAuthorLst xmlns:p="http://schemas.openxmlformats.org/presentationml/2006/main">
  <p:cmAuthor id="0" name="Hoeschle-Zeledon" initials="H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6-06-23T10:39:42.336000000" idx="1">
    <p:pos x="2850" y="1612"/>
    <p:text>Has the research also evolved? Yes. 
I would add a bullet on research evolution.  From jumpstarts to separate components to integrated packages.  Themes building on each other, the Rusike diagram. And systems approach based on typologies.
Plus developing  a farnework for measuring SI.
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8BB7-BB4D-4C79-9546-308578D0DAE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8B7F-6155-425D-84FF-20C7D2217B7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2022-3101-4F0C-93D1-81F8651E080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1F2-75F8-4E89-B411-09AB2E13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A93-71DC-4893-B04D-3FE1E934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5F8-A48C-49B8-9BF9-4F96AC96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C86-2DD8-4CB6-AEA5-6B48FCCA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1A2-B074-413A-B7D3-3C6F3622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9CA-0FAB-4BC1-A8A2-4723F80F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210D-8648-40EC-834D-672EBA63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BCE-70D7-4179-93C0-6F078C0C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B4F-DAC0-4B33-A890-E501FA9E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E10E-944C-45B5-A863-6192C4CF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C7F1-AE3F-4D7B-A78F-A4E8D7B1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C3F1-587E-4710-A831-76406B85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0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4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6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7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1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3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51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51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55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56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814D-1F9B-4983-A976-AD7AB68A32A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16" descr=""/>
          <p:cNvPicPr/>
          <p:nvPr/>
        </p:nvPicPr>
        <p:blipFill>
          <a:blip r:embed="rId2"/>
          <a:srcRect l="0" t="15856" r="0" b="9061"/>
          <a:stretch/>
        </p:blipFill>
        <p:spPr>
          <a:xfrm>
            <a:off x="8404200" y="5894280"/>
            <a:ext cx="663480" cy="430200"/>
          </a:xfrm>
          <a:prstGeom prst="rect">
            <a:avLst/>
          </a:prstGeom>
          <a:ln w="0">
            <a:noFill/>
          </a:ln>
        </p:spPr>
      </p:pic>
      <p:sp>
        <p:nvSpPr>
          <p:cNvPr id="646" name="TextBox 4"/>
          <p:cNvSpPr/>
          <p:nvPr/>
        </p:nvSpPr>
        <p:spPr>
          <a:xfrm>
            <a:off x="822240" y="63388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TIONAL CONFERENCE ON CLIMATE CHANGE AND MULTI-DIMENSIONAL SUSTAINABILITY IN AFRICAN AGRI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6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1600200"/>
          </a:xfrm>
          <a:prstGeom prst="rect">
            <a:avLst/>
          </a:prstGeom>
          <a:solidFill>
            <a:srgbClr val="b3d6a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"/>
              </a:rPr>
              <a:t>Overview of Year I Planned activities and outpu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Mateete Beku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Africa RISING: Going to scale in the Eastern Province of Zam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Annual Review and Planning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Gill Sans"/>
              </a:rPr>
              <a:t>30-31 August,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Gill Sans"/>
              </a:rPr>
              <a:t>Lusaka, Zambia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 2 Targets (Give for 20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228600" y="1752480"/>
          <a:ext cx="7620120" cy="4953240"/>
        </p:xfrm>
        <a:graphic>
          <a:graphicData uri="http://schemas.openxmlformats.org/drawingml/2006/table">
            <a:tbl>
              <a:tblPr/>
              <a:tblGrid>
                <a:gridCol w="2438280"/>
                <a:gridCol w="5181840"/>
              </a:tblGrid>
              <a:tr h="554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pre-basic and basic vine cuttings for further multiplication produc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36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July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e multipliers recruited and tra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84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 2015 to July 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undles of vines ready for dissemin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446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015 to July 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eneficiaries  disagregated by g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96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 2015 to July 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agro dealers piloted as selling points of v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84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 2015 to 31 July 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d network by gro-dealers (number serv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536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July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echnologies under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68256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ainings, demos, flyers, sign posts, radio programs and adverts, field days and cooking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492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varieties released or  near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7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echnologies developed/validat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73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enterprises developed from OFSP link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02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 3 Targ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152280" y="1371600"/>
          <a:ext cx="8839440" cy="5514840"/>
        </p:xfrm>
        <a:graphic>
          <a:graphicData uri="http://schemas.openxmlformats.org/drawingml/2006/table">
            <a:tbl>
              <a:tblPr/>
              <a:tblGrid>
                <a:gridCol w="2438640"/>
                <a:gridCol w="685800"/>
                <a:gridCol w="4190760"/>
                <a:gridCol w="1524240"/>
              </a:tblGrid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ustainably intensify maize dominated cropping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ached;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% increase in maize yie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 farmers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using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3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ntensify maize/ legume intercropping syste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reached with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 farmers using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duce labour requirement for seeding to allow for timely pla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reached with the technology;30 % reduction in labour for pla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 farmers using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duce labour for women and children for weed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reached with the technology; 30% reduction in labor for wee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 farmers using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440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ncrease land equivalen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ials =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mmendation legume combin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43092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dentify the best bet green manure speci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ials 6 + 48 CRS de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-bet green manure cover cr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</a:tr>
              <a:tr h="46152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dentify soil fertitlity benefits in agroforestry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ials =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s bet maize-agroforestry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27720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itrogen use effici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trials; 1 recommendation develop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ust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</a:tr>
              <a:tr h="6440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mprove nutrition and test MLN resistant germplasm for adapt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trials; 3 varieties rele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 4 Targ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685800" y="1600200"/>
          <a:ext cx="8305920" cy="5005440"/>
        </p:xfrm>
        <a:graphic>
          <a:graphicData uri="http://schemas.openxmlformats.org/drawingml/2006/table">
            <a:tbl>
              <a:tblPr/>
              <a:tblGrid>
                <a:gridCol w="3429000"/>
                <a:gridCol w="665280"/>
                <a:gridCol w="4211640"/>
              </a:tblGrid>
              <a:tr h="11678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quantify the value of the aflasafe bicontrol products in enhancing farmer income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 2016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value of Aflasafe product in enhancing farmer income quantified and promoted amongst the private sector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=200 adopte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758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assess the efficacy of two aflasafe bicontrol products in Region I and III agroecological zones of Zamb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 2016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cy of the Aflasafe biocontrol products ZM01 and ZM02 determined in Region I and III agroecological zones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=200 treated fiel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58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velop a business plan for comercializing aflasafe in Zamb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 2016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usiness plan </a:t>
                      </a: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commercializing aflasafe in Zambia developed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= Pl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840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velop an ecotoxicological dossier and identify requirements for aflasafe registration and commercializ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 2017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lasafe biocontrol products, ZM01 and ZM02 registered by ZEMA =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ossier &amp; recor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3024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asure impact of aflasafe application on cost and effectivness of key partners' opperations to inform buisness plan for aflasafe manufactur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C cost benefit analysis for participating private sector partners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= VC Repo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609480"/>
          </a:xfrm>
          <a:prstGeom prst="rect">
            <a:avLst/>
          </a:prstGeom>
          <a:solidFill>
            <a:srgbClr val="bac8b8"/>
          </a:solidFill>
          <a:ln w="12600">
            <a:solidFill>
              <a:srgbClr val="4b843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Action Sites in Zambia (May 20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0" name="Picture 10" descr="C:\Users\Mateete\Desktop\AAAAA\AR_Zambia_Demo_Sites_Themes.jpg"/>
          <p:cNvPicPr/>
          <p:nvPr/>
        </p:nvPicPr>
        <p:blipFill>
          <a:blip r:embed="rId1"/>
          <a:stretch/>
        </p:blipFill>
        <p:spPr>
          <a:xfrm>
            <a:off x="1600200" y="1981080"/>
            <a:ext cx="6019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1066680" y="5819760"/>
            <a:ext cx="685800" cy="75708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3" descr=""/>
          <p:cNvPicPr/>
          <p:nvPr/>
        </p:nvPicPr>
        <p:blipFill>
          <a:blip r:embed="rId2"/>
          <a:stretch/>
        </p:blipFill>
        <p:spPr>
          <a:xfrm>
            <a:off x="7243920" y="5867280"/>
            <a:ext cx="709560" cy="70956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1" descr="P:\logos\c\cimmyt\CIMMYT Logo.jpg"/>
          <p:cNvPicPr/>
          <p:nvPr/>
        </p:nvPicPr>
        <p:blipFill>
          <a:blip r:embed="rId3"/>
          <a:stretch/>
        </p:blipFill>
        <p:spPr>
          <a:xfrm>
            <a:off x="7118280" y="5057640"/>
            <a:ext cx="960480" cy="72072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2" descr="P:\logos\i\ifpri\IFPRI_Logo_Standard.jpg"/>
          <p:cNvPicPr/>
          <p:nvPr/>
        </p:nvPicPr>
        <p:blipFill>
          <a:blip r:embed="rId4"/>
          <a:stretch/>
        </p:blipFill>
        <p:spPr>
          <a:xfrm>
            <a:off x="2838600" y="5857920"/>
            <a:ext cx="390240" cy="7095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2" descr="P:\logos\i\ICRISAT\icrisat-logo.jpg"/>
          <p:cNvPicPr/>
          <p:nvPr/>
        </p:nvPicPr>
        <p:blipFill>
          <a:blip r:embed="rId5"/>
          <a:stretch/>
        </p:blipFill>
        <p:spPr>
          <a:xfrm>
            <a:off x="4510080" y="6037200"/>
            <a:ext cx="1506600" cy="56196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6" descr="AVRDC – The World Vegetable Center — avrdc.org"/>
          <p:cNvPicPr/>
          <p:nvPr/>
        </p:nvPicPr>
        <p:blipFill>
          <a:blip r:embed="rId6"/>
          <a:stretch/>
        </p:blipFill>
        <p:spPr>
          <a:xfrm>
            <a:off x="1066680" y="5148360"/>
            <a:ext cx="1967040" cy="538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" descr="P:\logos\i\iita\IITA_regular-sienna_with slogan (2).JPG"/>
          <p:cNvPicPr/>
          <p:nvPr/>
        </p:nvPicPr>
        <p:blipFill>
          <a:blip r:embed="rId7"/>
          <a:stretch/>
        </p:blipFill>
        <p:spPr>
          <a:xfrm>
            <a:off x="4191120" y="4444920"/>
            <a:ext cx="1123920" cy="563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4" descr=""/>
          <p:cNvPicPr/>
          <p:nvPr/>
        </p:nvPicPr>
        <p:blipFill>
          <a:blip r:embed="rId8"/>
          <a:stretch/>
        </p:blipFill>
        <p:spPr>
          <a:xfrm>
            <a:off x="4145040" y="5191200"/>
            <a:ext cx="1569960" cy="676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1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43131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80520" y="1592280"/>
            <a:ext cx="7620120" cy="70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600" spc="-1" strike="noStrike">
              <a:solidFill>
                <a:srgbClr val="323232"/>
              </a:solidFill>
              <a:latin typeface="Gill Sans"/>
            </a:endParaRPr>
          </a:p>
        </p:txBody>
      </p:sp>
      <p:sp>
        <p:nvSpPr>
          <p:cNvPr id="741" name="Title 1"/>
          <p:cNvSpPr/>
          <p:nvPr/>
        </p:nvSpPr>
        <p:spPr>
          <a:xfrm>
            <a:off x="700200" y="2971800"/>
            <a:ext cx="7619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Old English Text MT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outcomes and 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targ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pres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Project Strategic Outco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7772400" cy="25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novations that increase productivity of farming systems and of availability and consumption of safe and nutritious food are adop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stimulate the commercialization and distribution of improved legume seed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ontribute to increased frequency of intake of vitamin A, especially by women and children under 5 year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sustainably intensify current maize-based low input production system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ommercialize the aflasafe biocontrol products for aflatoxin mitigatio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8720" y="12189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matic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I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821c"/>
                </a:solidFill>
                <a:latin typeface="Calibri"/>
                <a:ea typeface="Calibri"/>
              </a:rPr>
              <a:t>Legume seed delivery systems im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Times New Roman"/>
              </a:rPr>
              <a:t>1.1 Support for production of breeder/foundation s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2 Promotion of complimentary agronomic pract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 3 Promotion of inoculation practi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4 Conduct of efficacy tests for inocu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5 Support for the e-voucher FISP program as a roll out strategy for legumes to pilot distri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6 Develop a plan for roll out beyond pilot distri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7 Identify and support small seed companies for commercialisation of legume s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8 Build capacity of agro dealer networks for seed distribution chann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9 Facilitate seed promotional and demand creation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10 Facilitate links with lead off-take / processing companies to stimulate end market demand of gr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11 Improve ZARI's storage and irrigation fac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2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821c"/>
                </a:solidFill>
                <a:latin typeface="Calibri"/>
                <a:ea typeface="Calibri"/>
              </a:rPr>
              <a:t>OFSP planting material systems strength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 Multiply and disseminate superior OFSP variet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a Support for production of breeder/foundation seeds (vin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b Recruit and train Vine multipliers and partn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c Support the multiplication of vines by vine multipli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d Facilitate the dissemination of vines to beneficiaries through promotion sales and pass-on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e Identify and support agro dealers to become linking points between multipliers and buyers of vin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f Build capacity of agro dealer networks for vine distribution channe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2 Improve OFSP productivity through the demonstration of improved varieties and associated production practic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3 Develop and disseminate diet diversification and nutrition messages on vitamin A, child healthy and other critical nutritional aspects for malnutrition reduc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4 Support new variety releas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.5 Conduct good agronomic practices stud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.6 Linking OFSP growers to road side and markets and other sweet potato related value chai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3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821c"/>
                </a:solidFill>
                <a:latin typeface="Calibri"/>
                <a:ea typeface="Calibri"/>
              </a:rPr>
              <a:t>Low input maize/legume systems sustainably intensif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1 Scaling of maize/legume ro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2 Scaling of maize/legume intercrop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3 Scaling of direct seeding method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4 Scaling of judicious use of herbici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5 Research on doubled up legume tech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6 Research on use green manure cover cro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7 Evaluation of the COMACO agroforestry scaling model and trade-off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8 Improving manure hand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9 Testing of new QPM lines and MLN resistant varie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4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821c"/>
                </a:solidFill>
                <a:latin typeface="Calibri"/>
                <a:ea typeface="Calibri"/>
              </a:rPr>
              <a:t>Efficacy of Aflasafe proven and commercialization facilit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1 Conduct national and regional trade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2 Assessment of the value of the aflasafe biocontrol prod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3 Demonstration of  aflasafe effic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4 Development of a business plan for commercialisation of aflasa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5 Registration of aflasafe produ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6 Conduct of the cost-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I Targe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52280" y="2057400"/>
          <a:ext cx="4191120" cy="4049640"/>
        </p:xfrm>
        <a:graphic>
          <a:graphicData uri="http://schemas.openxmlformats.org/drawingml/2006/table">
            <a:tbl>
              <a:tblPr/>
              <a:tblGrid>
                <a:gridCol w="990720"/>
                <a:gridCol w="1066680"/>
                <a:gridCol w="1109880"/>
                <a:gridCol w="102384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ed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ar 1: 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(t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81240"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yb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e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w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e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4572000" y="1371600"/>
          <a:ext cx="4343400" cy="5059440"/>
        </p:xfrm>
        <a:graphic>
          <a:graphicData uri="http://schemas.openxmlformats.org/drawingml/2006/table">
            <a:tbl>
              <a:tblPr/>
              <a:tblGrid>
                <a:gridCol w="1862280"/>
                <a:gridCol w="877680"/>
                <a:gridCol w="1603440"/>
              </a:tblGrid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eder seed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5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eased varie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(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565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ly released varie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SHAN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MUSAN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ZITA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P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eon 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EAP 01415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8:14:19Z</dcterms:created>
  <dc:creator>IZELEDON</dc:creator>
  <dc:description/>
  <dc:language>en-US</dc:language>
  <cp:lastModifiedBy>Odhong, Jonathan (IITA)</cp:lastModifiedBy>
  <cp:lastPrinted>2016-08-15T09:21:41Z</cp:lastPrinted>
  <dcterms:modified xsi:type="dcterms:W3CDTF">2016-09-08T14:56:14Z</dcterms:modified>
  <cp:revision>216</cp:revision>
  <dc:subject/>
  <dc:title>Slide 1</dc:title>
</cp:coreProperties>
</file>